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A89-C8C0-4AEE-9F02-E07914E1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17E-A052-4507-9E42-DBCFC726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4B3-8D8D-45CE-A25C-1CC962EB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C42-F1F4-4E57-828D-1CE366B5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247-6D3E-4317-B230-AC3224D9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D6E-59EC-4D72-8A3A-336D7C95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B8D-B8B9-4041-BE9F-520B3A92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C32-B798-48F8-B4BC-4E89DF40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D48-EC0F-46DB-ACC7-542369B3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726-3925-4C9B-B091-80415BC0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895-67B2-453C-942D-C8D98D1D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865-DF82-4DC7-B7FD-AC48CFFD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FD50-1B9E-4ABC-BFEA-F7733200EB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720" y="1571760"/>
            <a:ext cx="7500960" cy="2000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s://ds02.infourok.ru/uploads/ex/0b5f/00080e26-20cf4faf/img1.jpg"/>
          <p:cNvPicPr/>
          <p:nvPr/>
        </p:nvPicPr>
        <p:blipFill>
          <a:blip r:embed="rId1"/>
          <a:srcRect l="63925" t="21942" r="1701" b="17638"/>
          <a:stretch/>
        </p:blipFill>
        <p:spPr>
          <a:xfrm>
            <a:off x="6372360" y="3767040"/>
            <a:ext cx="21286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 работы в группе по моделирован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исание институциональной модели формирования УДД «Моделирование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Пополнение реестра образовательных практик в урочной и в неурочной деятель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Пополнение реестра контрольных мероприятий для оценки микроумений моделирова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Составление раздела основной образовательной программы основного общего образования, описывающей систему формирования  умений моделиро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 каждой школе выстроена внеурочная деятельность в основной школе, поэтому нет часов на формирование и развитие навыка моделирования вне уро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урочной деятельности педагоги не видят как это можно сдел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ое проектирование, как составная часть урочной деятельности, не используется педагогами и является резервом для формирования навыков моделиро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пы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сти мотивирующий вебинар для педагогов школы с цель знакомства с микроумениями моделир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сти проектный семинар по разработке заданий по моделированию по разным предмет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брать реестр образовательных практик в урочной и в неурочной деятельности по моделированию в ОУ (своих и чужи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брать реестр контрольных мероприятий для оценки микроумений моделирования в ОУ (своих и чужи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брать базу критериев по оценке микроумений моделир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исать модуль раздела основной образовательной программы основного общего образования, описывающего систему формирования  умений моделирования для О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09:32:01Z</dcterms:created>
  <dc:creator>physics-teacher</dc:creator>
  <dc:description/>
  <dc:language>en-US</dc:language>
  <cp:lastModifiedBy>310_1</cp:lastModifiedBy>
  <dcterms:modified xsi:type="dcterms:W3CDTF">2020-09-10T07:50:18Z</dcterms:modified>
  <cp:revision>90</cp:revision>
  <dc:subject/>
  <dc:title>«Конструкторское бюро» -соревнование по сборке  машин Голдберга</dc:title>
</cp:coreProperties>
</file>